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3A5-2D08-49F6-A542-CD4D0825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020-E28B-49E9-B4B8-BDBEC78D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654-7153-4D9E-AF15-B1B00086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3A1-A01E-4525-8D89-D01E357D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D672-2962-45C6-95B6-1E346868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34FA-61EC-43FB-A8D2-8CC0628D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DECB-7D85-470E-BA24-6CEAA7DC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C544-1FB8-4CD4-B1A5-A71A00D0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2ADA-54B0-4F92-A876-836F21CC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DF7A-090C-4A0F-85AA-4E195ECE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E27A-B95B-4B66-9583-51D9B301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6F4-5113-4CFA-9EFD-1B21A609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3A24-ACDE-4A0D-B486-40DCD356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4389-51BC-43DB-B68B-00FAAE7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030D-F2D7-406A-89F1-06696A2F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4A30-7F62-4896-84FD-F3EA6FCF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9A4E-5426-490D-9C36-7DAAD3F0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F3D-6A27-452E-A601-52E5809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BBA-D161-491E-8DB3-145B2F1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8E3-7323-47EE-92A6-CFB8AEE3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E2D-F47D-4F64-8B06-4C3AD13A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C9B-E682-4785-928E-824F3D89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A38-876F-4262-B2E9-4A07DE0F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06D-CDC7-4EDE-9E29-3FC7F4EB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C23-D8CD-41FE-897F-77B69062D5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0ECE-785B-49D1-B837-188283295F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, ТУРИЗМА И МОЛОДЕЖНОЙ ПОЛИТИКИ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ДЕПАРТАМЕНТ ПО ФИЗИЧЕСКОЙ КУЛЬТУРЕ И СПОРТУ КРАСНОДАРСКОГО КРАЯ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ЕДЕРАЦИЯ ЛЕГКОЙ АТЛЕТИКИ КРАСНОДАРСКОГО КРАЯ 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ЮНИОРЫ И ЮНИОРКИ ДО 20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-20.05.2012 год.                                  г. Краснодар ст. «КГА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ЮНИОРЫ И ЮНИОРКИ ДО 20 ЛЕТ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971720"/>
          <a:ext cx="7931160" cy="3419280"/>
        </p:xfrm>
        <a:graphic>
          <a:graphicData uri="http://schemas.openxmlformats.org/drawingml/2006/table">
            <a:tbl>
              <a:tblPr/>
              <a:tblGrid>
                <a:gridCol w="4156200"/>
                <a:gridCol w="2050920"/>
                <a:gridCol w="172404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атель мандатной коми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енко М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ин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ева Н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зьян А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шин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цын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оборуд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информации церемониа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цева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кад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2-05-20T06:34:20Z</cp:lastPrinted>
  <dcterms:modified xsi:type="dcterms:W3CDTF">2012-05-20T06:35:03Z</dcterms:modified>
  <cp:revision>16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